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6BAD-1434-47C1-B6D5-A6BEABC2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D09C-FA74-46A2-97D8-0698CAD9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9E9F-56EE-4A47-B5B1-A3C07D5E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2D80-CBEA-4BB0-BF18-DD623FC65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98E3-526D-472B-BA4B-43F8299E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CE83-1D74-42ED-9259-8E1C1C6E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701D-9A81-458E-AD1F-3B7458E0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42E0-FB56-4214-B9A1-26DAD70B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AA22-DA78-4254-8437-90BCE68F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B945-19A1-45AF-BBE0-35211A62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00BE-5FF6-4678-9B4B-38D321CD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030A-4324-48F5-B5C2-E14A8A40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CC66-3144-43F5-8510-658AF6EAD01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Mis documentos\Sin título-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Mis documentos\Sin título-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Mis documentos\Sin título-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Mis documentos\Sin título-1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Mis documentos\Sin título-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13:00:17Z</dcterms:created>
  <dc:creator>Grupo Editorial</dc:creator>
  <dc:description/>
  <dc:language>en-US</dc:language>
  <cp:lastModifiedBy>TORRES</cp:lastModifiedBy>
  <dcterms:modified xsi:type="dcterms:W3CDTF">2010-12-18T22:20:49Z</dcterms:modified>
  <cp:revision>1</cp:revision>
  <dc:subject/>
  <dc:title>Sin título de diapositiva</dc:title>
</cp:coreProperties>
</file>